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18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ЛОГ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И ПРИНЦИПИ ХЕМИОТЕРАПИЈЕ И ЦИТОСТАТИЦ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ЉЕНА ДЕЈСТВА ЦИТОСТАТИКА И ЊИХОВО ЛЕЧЕЊ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оц. др Марина Кост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зистенција малигних ћелија на цитоста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виси од фазе циклуса у којој се налазе ћелије –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фаза мировањ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истентност на антиметабол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Локализација ћелиј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субарахноидални простор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Стеч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укрштеног типа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лог: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рансмембрански гликопротеин 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ћелије бубрежних тубула, епител јејунума, колона, епител билијарних путева, ендотел капилара мозга и тести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ултифакторијал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Смањено преузимање лека од стране туморских ћелиј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метотрекса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етерана екструзија лека  - појачана синтеза трансмембранских гликопреотеина П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винка алкалоид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Смањена биоактивација лек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цитарабин који захтева фосфорилиациј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мена  на месту дејства лек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компензаторни механизам појачане синтезе дихидрофолата код примене МТ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оремећај  у  процесу опоравка оштећене ДН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цисплатин, већа ефикасност  ензима који поправљају грешке на нивоу ДН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зистенција малигних ћелија на цитоста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рштена резистенција најчешћа код следећих група цитостатика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трациклинских антибиотика, винкристина , винбластина, паклитаксела, етопозида, митомицина и пликамици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сновне групе цитост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ликлирајући аген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нтиметабол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нтитуморски антибиот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Цитостатици биљног поре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Енз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Хорм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муномодула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стали цитотоксични лекови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ликлирајући агенс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Механизам деј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Алкил гру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вих лекова се везује за атоме азота у пуринским и пиримидинским базама нуклеинских киселина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, N -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али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А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6 C.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дице: унакрсно везивање 2 ланца ДНК, погрешно упаривање база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 -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прекид ланца ДНК, смрт ћел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исоко реактивна група једињ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ја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ковалентно алкил груп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постављају везу са деловима нуклеинских киселина или протеин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ликлирајући агенс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000000"/>
                </a:solidFill>
                <a:uFillTx/>
                <a:latin typeface="Arial"/>
              </a:rPr>
              <a:t>Неспецифични када је у питању фаза ћелијског цикл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ерапијске индикације: леукемије, лимфоми, солидни тумо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едставниц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 u="sng">
                <a:solidFill>
                  <a:srgbClr val="ff0000"/>
                </a:solidFill>
                <a:uFillTx/>
                <a:latin typeface="Arial"/>
              </a:rPr>
              <a:t>Азотни пликав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 u="sng">
                <a:solidFill>
                  <a:srgbClr val="ff0000"/>
                </a:solidFill>
                <a:uFillTx/>
                <a:latin typeface="Arial"/>
              </a:rPr>
              <a:t>Деривати нитрозоуре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 u="sng">
                <a:solidFill>
                  <a:srgbClr val="ff0000"/>
                </a:solidFill>
                <a:uFillTx/>
                <a:latin typeface="Arial"/>
              </a:rPr>
              <a:t>Алкил сулфон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 u="sng">
                <a:solidFill>
                  <a:srgbClr val="ff0000"/>
                </a:solidFill>
                <a:uFillTx/>
                <a:latin typeface="Arial"/>
              </a:rPr>
              <a:t>Етиленим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 u="sng">
                <a:solidFill>
                  <a:srgbClr val="ff0000"/>
                </a:solidFill>
                <a:uFillTx/>
                <a:latin typeface="Arial"/>
              </a:rPr>
              <a:t>Триаз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Ефек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смрт ћелије, или неспособност даље деобе, индукција апоптоз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ајозбиљнији ефекти у касној Г1 и С фази ћелијског циклу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ликлирајући агенс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тпорн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повећана способност ћелија да поправе оштећења ДНК, смањен транспорт лекова у ћелију, повећана продукција глутатиона, повећана активност глутатион С трансфера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Фармаколошки ефек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зависни од дозе и врсте тки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погађају ткива која имају интензивну деобу): коштану срж, дигестивни тракт, репродуктивни тракт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ликлирајући агенси – Азотни пликав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ниц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Мехлорета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Циклофосфам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Ифосфам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Хлорамбуц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Мелфа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Мехлорета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0. – дериват бојног отрова, сумпорни пликава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тиленамонијум јон – инхибира синтезу и функцију ДН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1/2 – кратко, метаболише се у јетри а елиминише путем бубре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икација: Хочкинова бо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Аликлирајући агенси –Азотни пликавци –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Циклофосфамид, Ифосфам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 u="sng">
                <a:solidFill>
                  <a:srgbClr val="000000"/>
                </a:solidFill>
                <a:uFillTx/>
                <a:latin typeface="Arial"/>
              </a:rPr>
              <a:t>Циклофосфамид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– пер ос, и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Активни метаболити: </a:t>
            </a:r>
            <a:r>
              <a:rPr b="1" lang="sr-RS" sz="2600" spc="-1" strike="noStrike" u="sng">
                <a:solidFill>
                  <a:srgbClr val="000000"/>
                </a:solidFill>
                <a:uFillTx/>
                <a:latin typeface="Arial"/>
              </a:rPr>
              <a:t>фосфорамид и акроле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 u="sng">
                <a:solidFill>
                  <a:srgbClr val="000000"/>
                </a:solidFill>
                <a:uFillTx/>
                <a:latin typeface="Arial"/>
              </a:rPr>
              <a:t>Опрез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– смањено излучивање воде у бубрезима, ↓</a:t>
            </a: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 u="sng">
                <a:solidFill>
                  <a:srgbClr val="000000"/>
                </a:solidFill>
                <a:uFillTx/>
                <a:latin typeface="Arial"/>
              </a:rPr>
              <a:t>Најшири степен деловања 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– лимфоми, леукемије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солидни тумо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 u="sng">
                <a:solidFill>
                  <a:srgbClr val="000000"/>
                </a:solidFill>
                <a:uFillTx/>
                <a:latin typeface="Arial"/>
              </a:rPr>
              <a:t>Ифосфамид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Већи ефекат на саркоме и туморе герминативних ћел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 u="sng">
                <a:solidFill>
                  <a:srgbClr val="ff0000"/>
                </a:solidFill>
                <a:uFillTx/>
                <a:latin typeface="Arial"/>
              </a:rPr>
              <a:t>Хеморагични циститис 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је последица надраживања епитела м.бешике током излучивања - употреба </a:t>
            </a:r>
            <a:r>
              <a:rPr b="1" lang="sr-RS" sz="2600" spc="-1" strike="noStrike" u="sng">
                <a:solidFill>
                  <a:srgbClr val="000000"/>
                </a:solidFill>
                <a:uFillTx/>
                <a:latin typeface="Arial"/>
              </a:rPr>
              <a:t>месне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може превенирати овај тип циститис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ликлирајући аген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зотни пликавци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лорамбуц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држи бензолов прст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ристи се у терапији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хроничних хематолошких боле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ХЛЛ)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карцинома дој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мултиплог мејел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Нежељена деј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супресивни ефекат на костну с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Алкил сулфонати, етиленимини, триаз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Алкил сулфонати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r-RS" sz="1600" spc="-1" strike="noStrike">
                <a:solidFill>
                  <a:srgbClr val="c00000"/>
                </a:solidFill>
                <a:latin typeface="Arial"/>
              </a:rPr>
              <a:t>БУСУЛФАН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– Примењује се орално у лечењу хроничне мијелоидне леукемиј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Етиленимини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sr-RS" sz="1600" spc="-1" strike="noStrike">
                <a:solidFill>
                  <a:srgbClr val="666666"/>
                </a:solidFill>
                <a:latin typeface="Arial"/>
              </a:rPr>
              <a:t>ТИОТЕПА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– у терапији мултифокалног карцинома мокраћне беши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Триазени – </a:t>
            </a:r>
            <a:r>
              <a:rPr b="1" i="1" lang="sr-RS" sz="1600" spc="-1" strike="noStrike">
                <a:solidFill>
                  <a:srgbClr val="000000"/>
                </a:solidFill>
                <a:latin typeface="Arial"/>
              </a:rPr>
              <a:t>ДАКАРБАЗИН –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терапија </a:t>
            </a:r>
            <a:r>
              <a:rPr b="1" lang="sr-RS" sz="1600" spc="-1" strike="noStrike" u="sng">
                <a:solidFill>
                  <a:srgbClr val="ff0000"/>
                </a:solidFill>
                <a:uFillTx/>
                <a:latin typeface="Arial"/>
              </a:rPr>
              <a:t>метастатских меланом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, саркома, Хочкинових лимфома. </a:t>
            </a:r>
            <a:r>
              <a:rPr b="1" i="1" lang="sr-RS" sz="1600" spc="-1" strike="noStrike">
                <a:solidFill>
                  <a:srgbClr val="000000"/>
                </a:solidFill>
                <a:latin typeface="Arial"/>
              </a:rPr>
              <a:t>Врши метилизацију ДНК и РНК туморских ћелиј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ликлирајући агенси –деривати </a:t>
            </a:r>
            <a:r>
              <a:rPr b="0" i="1" lang="sr-RS" sz="3200" spc="-1" strike="noStrike">
                <a:solidFill>
                  <a:srgbClr val="000000"/>
                </a:solidFill>
                <a:latin typeface="Arial"/>
              </a:rPr>
              <a:t>нитрозоуре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редставници: </a:t>
            </a:r>
            <a:r>
              <a:rPr b="0" lang="sr-RS" sz="2200" spc="-1" strike="noStrike" u="sng">
                <a:solidFill>
                  <a:srgbClr val="000000"/>
                </a:solidFill>
                <a:uFillTx/>
                <a:latin typeface="Arial"/>
              </a:rPr>
              <a:t>липосолубилни-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ff0000"/>
                </a:solidFill>
                <a:latin typeface="Arial"/>
              </a:rPr>
              <a:t>ломустин, кармустин, семуст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000000"/>
                </a:solidFill>
                <a:uFillTx/>
                <a:latin typeface="Arial"/>
              </a:rPr>
              <a:t>Хемијски нестабилни (хлоретил-диазохидроксид и изоцијана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Добро продиру у ЦН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римена: </a:t>
            </a:r>
            <a:r>
              <a:rPr b="0" lang="sr-RS" sz="2200" spc="-1" strike="noStrike" u="sng">
                <a:solidFill>
                  <a:srgbClr val="000000"/>
                </a:solidFill>
                <a:uFillTx/>
                <a:latin typeface="Arial"/>
              </a:rPr>
              <a:t>астроцитоми, олигодендроглио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ежељено дејство: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плућна фибро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 u="sng">
                <a:solidFill>
                  <a:srgbClr val="000000"/>
                </a:solidFill>
                <a:uFillTx/>
                <a:latin typeface="Arial"/>
              </a:rPr>
              <a:t>Темозоломид – 1° тумори ЦНС-а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 u="sng">
                <a:solidFill>
                  <a:srgbClr val="666666"/>
                </a:solidFill>
                <a:uFillTx/>
                <a:latin typeface="Arial"/>
              </a:rPr>
              <a:t>Хидросолубилн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Стрептозоц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Хемијски нестабилно једињење, интравенска приме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Селективно дејство на </a:t>
            </a:r>
            <a:r>
              <a:rPr b="1" lang="sr-RS" sz="2200" spc="-1" strike="noStrike" u="sng">
                <a:solidFill>
                  <a:srgbClr val="000000"/>
                </a:solidFill>
                <a:uFillTx/>
                <a:latin typeface="Arial"/>
              </a:rPr>
              <a:t>ћелије панкреас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, доводе до недостатка НАД-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римена: незидиобластоми (тумори бета ћелија панкреас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Нежељено дејство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: оштећење бубре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итостат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алигне болести се лече на три начина: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хируршки, радиотерапијом и хемотерапијом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000000"/>
                </a:solidFill>
                <a:uFillTx/>
                <a:latin typeface="Arial"/>
              </a:rPr>
              <a:t>Цитостатиц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лекови који заустављају раст и развој малигних ћелиј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вантитативне разлике у метаболизму између малигних и нормалних ћел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алигне ћелије се умножавају </a:t>
            </a:r>
            <a:r>
              <a:rPr b="0" i="1" lang="sr-RS" sz="2400" spc="-1" strike="noStrike" u="sng">
                <a:solidFill>
                  <a:srgbClr val="000000"/>
                </a:solidFill>
                <a:uFillTx/>
                <a:latin typeface="Arial"/>
              </a:rPr>
              <a:t>стихијск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, не показују тенденцију за диференцирање, метастазирају у околна ткив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Антиметаболи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Структурна грађа ових лекова одговара грађи ДНК и РН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Механизам дејства : </a:t>
            </a:r>
            <a:r>
              <a:rPr b="0" i="1" lang="sr-RS" sz="3000" spc="-1" strike="noStrike">
                <a:solidFill>
                  <a:srgbClr val="000000"/>
                </a:solidFill>
                <a:latin typeface="Arial"/>
              </a:rPr>
              <a:t>компетиција око активних места на ензимима , </a:t>
            </a:r>
            <a:r>
              <a:rPr b="0" lang="sr-RS" sz="3000" spc="-1" strike="noStrike" u="sng">
                <a:solidFill>
                  <a:srgbClr val="000000"/>
                </a:solidFill>
                <a:uFillTx/>
                <a:latin typeface="Arial"/>
              </a:rPr>
              <a:t>потпуна замена природних молекула у процесу синтезе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Најактивнији у </a:t>
            </a:r>
            <a:r>
              <a:rPr b="1" lang="sr-RS" sz="3000" spc="-1" strike="noStrike" u="sng">
                <a:solidFill>
                  <a:srgbClr val="000000"/>
                </a:solidFill>
                <a:uFillTx/>
                <a:latin typeface="Arial"/>
              </a:rPr>
              <a:t>С фази ћелијског циклус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Примена:малигни тумори који имају значајно велику фракцију ћелија у фази раста – хематолошка обољењ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Аналози фолата 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Метотрекса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 u="sng">
                <a:solidFill>
                  <a:srgbClr val="000000"/>
                </a:solidFill>
                <a:uFillTx/>
                <a:latin typeface="Arial"/>
              </a:rPr>
              <a:t>Механизам дејств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Компетитивна инхибиција везивање фолне киселине за ензим </a:t>
            </a:r>
            <a:r>
              <a:rPr b="1" lang="sr-RS" sz="3200" spc="-1" strike="noStrike" u="sng">
                <a:solidFill>
                  <a:srgbClr val="c00000"/>
                </a:solidFill>
                <a:uFillTx/>
                <a:latin typeface="Arial"/>
              </a:rPr>
              <a:t>дихидрофолат-редуктазу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, чиме је синтеза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тимидилата, глицина, пурина и метионина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преч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 се добро апсорбује након оралне примене, а излучује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путем бубрег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у три фазе: дистрибуциона, почетна и касна елиминациона ф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налози фолата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етотрекса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одатно дејство се остварује стварањем полиглутаматних метаболита, додавањем 5-7 глутаматних остатака дејством фолилполиглутамат-синтетаз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вако настали метаболит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уго остају у ћелији и спречавају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е нов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синтезу ДН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Аналози фолата 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Метотрекса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 u="sng">
                <a:solidFill>
                  <a:srgbClr val="000000"/>
                </a:solidFill>
                <a:uFillTx/>
                <a:latin typeface="Arial"/>
              </a:rPr>
              <a:t>Индикације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: акутна лимфобластна леукемија, Буркитов лимфом, хориокарцином, превенција метастаза код АЛ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 u="sng">
                <a:solidFill>
                  <a:srgbClr val="000000"/>
                </a:solidFill>
                <a:uFillTx/>
                <a:latin typeface="Arial"/>
              </a:rPr>
              <a:t>Нежељена дејства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RS" sz="2600" spc="-1" strike="noStrike">
                <a:solidFill>
                  <a:srgbClr val="000000"/>
                </a:solidFill>
                <a:latin typeface="Arial"/>
              </a:rPr>
              <a:t>оштећење бубрежних тубула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, цироза јетр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Надокнада фолинске киселине код предозирањ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Пеметрексед и пралатрексат – новији представниц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Arial"/>
              </a:rPr>
              <a:t>Пеметрексед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– неситноћелијски карцином плућ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Arial"/>
              </a:rPr>
              <a:t>Пралатрексат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– рефракторни Т ћелијски лимгф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налози фолата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етотрекса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тпорно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ањење транспорта лека услед смањеног броја носача за фолате или рецеп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ањење процеса полиглутам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мена количине или афинитета дихидрофолат редукт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Активација гликопротеина П17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Аналози пурина 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- тиогванин, меркаптопурин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Ензим </a:t>
            </a:r>
            <a:r>
              <a:rPr b="1" lang="sr-RS" sz="2200" spc="-1" strike="noStrike" u="sng">
                <a:solidFill>
                  <a:srgbClr val="c00000"/>
                </a:solidFill>
                <a:uFillTx/>
                <a:latin typeface="Arial"/>
              </a:rPr>
              <a:t>хипоксантин гуанин- фосфорибозил трансфераз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- активан облик тиогуанозин монофосфат →</a:t>
            </a:r>
            <a:r>
              <a:rPr b="1" lang="sr-RS" sz="2200" spc="-1" strike="noStrike" u="sng">
                <a:solidFill>
                  <a:srgbClr val="ff0000"/>
                </a:solidFill>
                <a:uFillTx/>
                <a:latin typeface="Arial"/>
              </a:rPr>
              <a:t>тиогуанозин трифосфат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→ уграђује у ДНК или РНК → погрешно кодирање протеина (АМ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Меркаптопурин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– орална примена  лечењу акутне лимфобластне леукем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ози природних пуринских база и нуклеоти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ркаптопурин и тиогуанин су деривати аденина и гуан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Уз алопуринол – спречавање хиперурикемије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Аналози пурина –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флударабин, пентоста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лудараби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2-флуоро-ара-аденозин трифосфат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инхибира ДНК полимераз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ристи се у терапији хроничне лимфоцитне леукемије и нон -Хочкин лимф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ењује се парентерално, елиминише се путем у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жељена дејства: мијелосупресија, имуносупресија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нтостати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хибицијом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аденозин деамина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оводи до накупљања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аденозина и дезоксиаденозин трифосф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ји делује токсично на лимфоците → леукемија власастих ћел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Аналози пиримидина – гемцитабин, цитараб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мцитаби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дифлуоро-деоксицитидин трифосф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кон интравенске примене омета синтезу ДН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емцитабин –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ишеструки антитуморски ефек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хибиција рибонуклеотид редуктазе гемцитабин-дифосфатом, инхибиција ДНК полимераза, уградња трифосфатног облика у ДНК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ндикац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карцином панкреаса у фази метастазе, микроцелуларни карцином плућа 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жељена дејст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неутропенија, ГИТ сметње, синдром сличан грипу и ретко хемолитичко уремијски синдром 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налози пиримидина – гемцитабин, цитараб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итарабин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ецифично делује на С фазу ћелијског цикл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фосфатни облик – посебно цитотоксичан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инхибира ДНК полимераз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уморских ћелија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њује се 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активира  се деаминац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за разградња – примењује се континуираном инфузијом током 5-7 д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дик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хематолошки малигноми, несолидни тумо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жељена деј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мијелосупресија, ГИТ сметње, неуротоксичност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Аналози пиримидина – флуороурацил, капецитаб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000000"/>
                </a:solidFill>
                <a:uFillTx/>
                <a:latin typeface="Arial"/>
              </a:rPr>
              <a:t>5-флуороурацил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5-флуоро – 2' деоксиуридин – С'- фосфат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активан облик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инхибира тимидилат синтетазу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ристи се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Arial"/>
              </a:rPr>
              <a:t>у терапији карцинома дојке, ГИТ карцинома и локално за третман премалигних кератоза кож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мена: ив, лока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рзо се разграђује (т</a:t>
            </a:r>
            <a:r>
              <a:rPr b="0" lang="sr-RS" sz="24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-15 мину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0000"/>
                </a:solidFill>
                <a:uFillTx/>
                <a:latin typeface="Arial"/>
              </a:rPr>
              <a:t>Дихидропиримидин – дехидроген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Недостатак овог ензима – повећана токсичност – мијелосупресија, диг. сметње, неуротоксичност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ивотни циклус ћел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вотни циклус ћелија – четири ф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рипрема за репликацију своје ДН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фаза –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репликација ДН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фаза –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рипрема за мито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то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– кондезација хромозома, раздвајање и дефинитивна деоба ћелије мајке на две ћерке ћел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фаза –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фаза миро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лигне ћелије –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ћелије сва три ти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дефинитивно диференциране ћелије, матичне ћелије, ћелије које се непрекидно де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налози пиримидина – флуороурацил, капецитаб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апецитаб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о-лек који у организму прелази у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- флуороураци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цес карбоксилације и деаминације у јетри , а потом у ћелијама тумора хидролиза до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- флуороураци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кације: карцином колона, дојке кад пацијенти нису реаговали на осталу терапиј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жељене реакције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црвена, болна оспа на табанима и длан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итуморски антибиот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оди микроорганиза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reptomyces sp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ханизам дејств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грађују се  између база ДНК Г и Ц или Г и 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хибирају ДНК томоизомеразе I, II (ензиме који имају кључну улогу у процесу репликације ДНК и транскрипције РН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ниц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Доксорубиц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Даунорубиц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Идарубиц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Блеомиц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итомиц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Дактиномиц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Пликамицин (митрамиц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титуморски антибиотици – доксорубицин , даунорубицин, идарубиц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Доксорубиц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ције: карцином дојке, ендометријума, јајника, тестиса, штитасте жлезде.... хематолошки малигноми, саркоми, неуробластом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имењује се ив, у комбинацији са др. лекови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цисплатина, циклофосафамид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ежељена дејства – специфичне кардиотоксичност, "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radiation recall“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реакција, </a:t>
            </a:r>
            <a:r>
              <a:rPr b="1" lang="sr-RS" sz="2800" spc="-1" strike="noStrike">
                <a:solidFill>
                  <a:srgbClr val="262673"/>
                </a:solidFill>
                <a:latin typeface="Arial"/>
              </a:rPr>
              <a:t>хиперпигментација лежишта  нокта</a:t>
            </a:r>
            <a:r>
              <a:rPr b="0" lang="sr-RS" sz="2800" spc="-1" strike="noStrike">
                <a:solidFill>
                  <a:srgbClr val="262673"/>
                </a:solidFill>
                <a:latin typeface="Arial"/>
              </a:rPr>
              <a:t>,</a:t>
            </a:r>
            <a:r>
              <a:rPr b="1" lang="sr-RS" sz="2800" spc="-1" strike="noStrike">
                <a:solidFill>
                  <a:srgbClr val="262673"/>
                </a:solidFill>
                <a:latin typeface="Arial"/>
              </a:rPr>
              <a:t> коже</a:t>
            </a:r>
            <a:r>
              <a:rPr b="0" lang="sr-RS" sz="2800" spc="-1" strike="noStrike">
                <a:solidFill>
                  <a:srgbClr val="262673"/>
                </a:solidFill>
                <a:latin typeface="Arial"/>
              </a:rPr>
              <a:t>, </a:t>
            </a:r>
            <a:r>
              <a:rPr b="1" lang="sr-RS" sz="2800" spc="-1" strike="noStrike" u="sng">
                <a:solidFill>
                  <a:srgbClr val="ff0000"/>
                </a:solidFill>
                <a:uFillTx/>
                <a:latin typeface="Arial"/>
              </a:rPr>
              <a:t>боји урин у црвено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титуморски антибиотици – доксорубицин , даунорубицин, идарубиц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Даунорубици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изводи бактерија Streptomyces peucet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лује н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кутне леукем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имена - интравен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жељена дејства: губитак кос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дарубицин – липофилни аналог даунорубиц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кације: у комбинацији са цитарабином у лечењу АМЛ-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леомиц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Блеомиц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њује се парентерално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иминација – путем бубр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пешно третира узнапредовале карциноме тестиса, карцином главе и врата, карциноме материце, вулв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жељена дејства 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иброза плућ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иперпигмента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хиперпирекс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титуморски антибиотици – блеомицин, митомицин,дактиномицин, пликамиц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000000"/>
                </a:solidFill>
                <a:uFillTx/>
                <a:latin typeface="Arial"/>
              </a:rPr>
              <a:t>Митомицин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Streptomyces caespito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000000"/>
                </a:solidFill>
                <a:uFillTx/>
                <a:latin typeface="Arial"/>
              </a:rPr>
              <a:t>Активира се редукцијом у алкилирајући метаболит који се везује за ДН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Хипоксичне туморске ћелије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квамозни карцином колона, материце, дојке, желуца и панкре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 u="sng">
                <a:solidFill>
                  <a:srgbClr val="000000"/>
                </a:solidFill>
                <a:uFillTx/>
                <a:latin typeface="Arial"/>
              </a:rPr>
              <a:t>Митомици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– интравезикално код карцинома мокраћне беш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оксичност ретка: ХУ синдром, интерстицијски пнеумонити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 u="sng">
                <a:solidFill>
                  <a:srgbClr val="000000"/>
                </a:solidFill>
                <a:uFillTx/>
                <a:latin typeface="Arial"/>
              </a:rPr>
              <a:t>Дактиномицин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– третман Вилмсовог тумора, Јуинговог саркома и рабдиомиосарк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 u="sng">
                <a:solidFill>
                  <a:srgbClr val="000000"/>
                </a:solidFill>
                <a:uFillTx/>
                <a:latin typeface="Arial"/>
              </a:rPr>
              <a:t>Пликамицин – инхибира ресорпцију кости и ↓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Arial"/>
              </a:rPr>
              <a:t>c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итостатици биљног поре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Алкалоиди биљке </a:t>
            </a:r>
            <a:r>
              <a:rPr b="0" i="1" lang="sr-Latn-RS" sz="3000" spc="-1" strike="noStrike">
                <a:solidFill>
                  <a:srgbClr val="000000"/>
                </a:solidFill>
                <a:latin typeface="Arial"/>
              </a:rPr>
              <a:t>Vinca rosea</a:t>
            </a:r>
            <a:r>
              <a:rPr b="0" i="1" lang="sr-R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r-RS" sz="3000" spc="-1" strike="noStrike">
                <a:solidFill>
                  <a:srgbClr val="000000"/>
                </a:solidFill>
                <a:latin typeface="Arial"/>
              </a:rPr>
              <a:t>винкристин, винбластин, винорелб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Токсини биљке </a:t>
            </a:r>
            <a:r>
              <a:rPr b="0" lang="sr-Latn-R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3000" spc="-1" strike="noStrike">
                <a:solidFill>
                  <a:srgbClr val="000000"/>
                </a:solidFill>
                <a:latin typeface="Arial"/>
              </a:rPr>
              <a:t>Podophyllum peltatum  </a:t>
            </a:r>
            <a:r>
              <a:rPr b="0" lang="sr-Latn-R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RS" sz="3000" spc="-1" strike="noStrike">
                <a:solidFill>
                  <a:srgbClr val="000000"/>
                </a:solidFill>
                <a:latin typeface="Arial"/>
              </a:rPr>
              <a:t>етопозид , тенипози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Полусинтетски деривати супстанци из биљке </a:t>
            </a:r>
            <a:r>
              <a:rPr b="0" i="1" lang="sr-Latn-RS" sz="3000" spc="-1" strike="noStrike">
                <a:solidFill>
                  <a:srgbClr val="000000"/>
                </a:solidFill>
                <a:latin typeface="Arial"/>
              </a:rPr>
              <a:t>Taxus baccata </a:t>
            </a:r>
            <a:r>
              <a:rPr b="0" lang="sr-Latn-R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r-RS" sz="3000" spc="-1" strike="noStrike">
                <a:solidFill>
                  <a:srgbClr val="000000"/>
                </a:solidFill>
                <a:latin typeface="Arial"/>
              </a:rPr>
              <a:t>паклитаксел, доцетак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Алкалоид пореклом из биљке</a:t>
            </a:r>
            <a:r>
              <a:rPr b="0" lang="sr-Latn-R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3000" spc="-1" strike="noStrike">
                <a:solidFill>
                  <a:srgbClr val="000000"/>
                </a:solidFill>
                <a:latin typeface="Arial"/>
              </a:rPr>
              <a:t>Camptotheca acuminata </a:t>
            </a:r>
            <a:r>
              <a:rPr b="0" lang="sr-Latn-R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r-RS" sz="3000" spc="-1" strike="noStrike">
                <a:solidFill>
                  <a:srgbClr val="000000"/>
                </a:solidFill>
                <a:latin typeface="Arial"/>
              </a:rPr>
              <a:t>иринотекан, топотек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лкалоиди биљке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nca rosea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винкристин, винбластин, винорелбин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ханизам дејства: спречавају настанак митотског вретена малигних ћелија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езивањем за тубул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инкристин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акутна лимфобластна леукемије (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неуропатија!!!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Хочкинов лимфом, неХочкинов лимфом, солидни тумори код де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инбласт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карцином тест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инорелб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немикроцелуларни карцином плу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48320" y="2287080"/>
            <a:ext cx="40384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калоиди биљке Vinca rosea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инкристин, винбластин, винорелбин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инбласт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метаболише се у јетри, преко цитохрома П 4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през: оштећење јет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жељена дејств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учнина, повраћање, супресија коштане сржи и алопециј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инкристин – у комбинацији са преднизолоном у терапији АЛЛ код деце. Користи се и код Евинговог саркома, Вилмсовог тумора, неуробластома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еуротоксичност: периферна сензорна неуропатија, поремећај АНС-а, неуралгије поремећаји кранијалних живаца, атаксија, конвулзије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индром недовољне секреције АДХ-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Токсини биљке </a:t>
            </a: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3600" spc="-1" strike="noStrike">
                <a:solidFill>
                  <a:srgbClr val="000000"/>
                </a:solidFill>
                <a:latin typeface="Arial"/>
              </a:rPr>
              <a:t>Podophyllum peltatum  </a:t>
            </a: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етопозид , тенопозид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Механизам дејст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инхибиција ензима топоизомеразе II, стабилизацијом комплекса лек - ДНК, онемогућава се деоба малигне ћел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нипози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акутна лимфобластна леук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Етопози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dophyllum pelt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 ос примена: у дуплој дози у односу на ив прим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ције: тумори герминативних ћелија јаника и оваријума, акутне леукемије, микроцелуларни карцином плућ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итостат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рапија карцинома у основи подразумева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спречавање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 novo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синтезу ДНК или РН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ханиз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штећење матрице ДН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лкилирајћи агенси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Инхибиција синтезе нуклеинских ба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етотрексат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Инкорпорација погрешних нуклеинских база или нуклеоти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5 – флуороурацил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лусинтетски деривати супстанци из биљке </a:t>
            </a:r>
            <a:r>
              <a:rPr b="0" i="1" lang="sr-Latn-RS" sz="2400" spc="-1" strike="noStrike">
                <a:solidFill>
                  <a:srgbClr val="000000"/>
                </a:solidFill>
                <a:latin typeface="Arial"/>
              </a:rPr>
              <a:t>Taxus baccata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аклитаксел, доцетаксел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Индукују апоптозу малигних ће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метају настанак митотског врет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карцином дојке, плућа, оваријума, главе и в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жељена деј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периферна неуропатија 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реверзибилна у форми са албуми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мијелосупресија, реакције преосетљивости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аклитаксе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xus brevifolia et bacc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тров митотичког вре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етаболише се у јет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ови облик – комбинација са албумином умањује настанак алергијских реакциј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синтетски деривати супстанци из биљк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xus baccat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клитаксел, доцетаксе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оцетакс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ндикациј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карциноми дојке, микроцелуларни карцином плућа, карцином главе и врата, узнапредовали карцином јајника, м. беши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ежељена деј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неуротоксичност, ретенција течности, мијелосупресија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лкалоид пореклом из биљке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3200" spc="-1" strike="noStrike">
                <a:solidFill>
                  <a:srgbClr val="000000"/>
                </a:solidFill>
                <a:latin typeface="Arial"/>
              </a:rPr>
              <a:t>Camptotheca acuminata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иринотекан, топотекан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Инхибиција топоизомеразе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опотек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карцином јајника у одмаклој фази након терапије платином и микроцелуларни карцином плућ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иминише се путем бубрега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ринотек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карцином колона са метастаз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иминише се преко жучи и столиц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ежељена дејства: мијелосупресија, дијареја (рани и касни облик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нзи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Л-аспарагин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кон интравенске примене доводи до недостатка аспарагина у крви болес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ристи се у терапији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Arial"/>
              </a:rPr>
              <a:t>акутне лимфобластне леукемиј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000000"/>
                </a:solidFill>
                <a:uFillTx/>
                <a:latin typeface="Arial"/>
              </a:rPr>
              <a:t>Нема токсичан ефекат на костну срж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Хидролизира Л-аспарагин на аспартати амониј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кон примене, остаје у крви дан, два, а потом је спонтано разлажу серумске протеазе и ћелије РЕС-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Нежељене  реакциј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: анафилакса, хепатитис, панкреатитис, хипергликемија, поремећај коагулације, конфузиј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орм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2287440"/>
          <a:ext cx="8229600" cy="3840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к/начин приме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зам деј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дик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жељена деј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моксифен/орална прим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окада естрогенских рецеп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мон зависни карциноми дојке, тумори оваријума и матер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унзи, сувоћа слузокоже и коже, хиперкалцем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строзол, летрозол, ексеместан/орална прим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хибиција аромата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мон зависни карциноми дојке (</a:t>
                      </a: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ње рецидива и мања појава нових тумора у односу на тамоксифен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брзање остеопорозе, пораст липида у плазми, укоченост  зглоб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лувестрант/им прим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ходна регулације естрогенских рецеп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статски карцином дој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ћа склоност ка инфекцијама, замор главобоља, бол на месту примене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орм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2287440"/>
          <a:ext cx="8229600" cy="3840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к/начин приме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зам деј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дик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жељена деј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лутамид/орална прим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окира рецепторе за андроге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цином проста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тка тешка оштећења је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рамустин/орална прим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монско и цитотоскично дејство (комбинација естардиола и азотног пликавц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цином простате који је рефракторан на иницијалну терапију естрогени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унзи, гинекомастија, осетљивост дојки, пораст јетриних ензи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упролид, </a:t>
                      </a: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серелин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поткожна примена; имплат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ози ГРХ – континуирана примена блокира ослобађање полних хорм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ијативно лечење карцинома проста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аст крвног притиска, ендокрини поремећаји, вазоди-латација, појава едема, појачано знојење,валун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орм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287440"/>
          <a:ext cx="8229600" cy="2748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к/начин приме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зам деј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дик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жељена деј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реоид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кожна, интравенска ињ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хибиција ослобађања хормона дигестивног тра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тастатски карциноид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рцином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Л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нгерхансови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стрв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а панкреаса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погликемија, хипергликем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стали цитостат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дроксиуре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инхибира превођење рибонуклеотида у дезоксирибонуклеот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икација: терапија ХМЛ-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бро продире кроз хемато-енцефалну бариј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жељена дејства: хиперпигментација и хиперкерат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Прокарбазин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– оксидацијом и стварањем слободних радикала оштећује ДН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ндикације: Хочкинов лимфом, не-Хочкинов лимфом, микроцелуларни карцином плућ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през: интеракције!!!!! (седативи, алкохол, симпатомиметици, храна богата тирамином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стали цитостат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Arial"/>
              </a:rPr>
              <a:t>Митотан – 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Након оралне примене сенакупља </a:t>
            </a:r>
            <a:r>
              <a:rPr b="0" lang="sr-RS" sz="2600" spc="-1" strike="noStrike" u="sng">
                <a:solidFill>
                  <a:srgbClr val="000000"/>
                </a:solidFill>
                <a:uFillTx/>
                <a:latin typeface="Arial"/>
              </a:rPr>
              <a:t>у масном ткиву и кори надбубрега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Користи се у терапији карцинома коре надбубрег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Arial"/>
              </a:rPr>
              <a:t>Цисплатин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– Делује слично алкилирајућим агенсима и омета репликацију ДН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Карцином тестиса и јајн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Спора елиминација путем бубрег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 u="sng">
                <a:solidFill>
                  <a:srgbClr val="ff0000"/>
                </a:solidFill>
                <a:uFillTx/>
                <a:latin typeface="Arial"/>
              </a:rPr>
              <a:t>Нефро-, ото-, неуро-токсичност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Arial"/>
              </a:rPr>
              <a:t>Карбоплатин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–мањи токсични потенција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хибитори тирозин кина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атиниб, гефитиниб, ерлотиниб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Хронична мијелоидна леукемија, гастроинтестинални стромални сарко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атини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ХМЛ (уколико пацијенти нису реаговали на интерферон алф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хибира абнормалну тирозин кина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ењује се орално, метаболише преко јетре CYP 45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фикасност – ремисија и до 88% болесника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ефатиниб, ерлотиниб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рцином плућа (позитивни на епидермални фактор ра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нципи хемо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56800" y="2071800"/>
            <a:ext cx="74883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Раст туморских ће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личита дужина ћелијског циклуса, у зависности од типа ће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енат ћелија која пролази кроз ћелијски циклус се увећа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убитак ћелија – смрт, неадекватна деоба, метастазе, миграција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Гомпцерова крива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почетку ћелије се рапидно деле, како се величина тумора повећава даљи раст се успорава због промена у васкуларизацији и појаве смрти ћел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ноклонска антитела у онколог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2287440"/>
          <a:ext cx="8229600" cy="435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ноклонско антите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sr-Latn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обрене индикације</a:t>
                      </a:r>
                      <a:r>
                        <a:rPr b="1" lang="sr-Latn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F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зам деј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0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стузумаб (</a:t>
                      </a:r>
                      <a:r>
                        <a:rPr b="0" lang="sr-Latn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ceptin®</a:t>
                      </a: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sr-Latn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манизовани </a:t>
                      </a:r>
                      <a:r>
                        <a:rPr b="1" lang="sr-Latn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G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human epidermal growth factor receptor 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мори дојке са ХЕР2 рецептором, самостално или у комбинацији са др. леком; тумор желуца или гастроезофагеални карциноми са ХЕР2 рецептором – 1. линија лечења у комбинацији са цисплатином  и капцетабин/5 -флуоурацил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хибиција ХЕР2 сигналног пу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вацизумаб 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stin®</a:t>
                      </a: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манизовани </a:t>
                      </a:r>
                      <a:r>
                        <a:rPr b="1" lang="sr-Latn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G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GF (vascular endothel growth factor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ијативно лечење колоректалног карцинома, несквамозног немикроцелуларног карцинома плућа, гиобластом, карцином бубрежних ћел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хибиција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GF</a:t>
                      </a: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игналног пу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мтузумаб (</a:t>
                      </a:r>
                      <a:r>
                        <a:rPr b="0" lang="sr-Latn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path®</a:t>
                      </a: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sr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хуманизовани </a:t>
                      </a:r>
                      <a:r>
                        <a:rPr b="1" lang="sr-Latn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G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лечењу ХЛЛ-а (</a:t>
                      </a:r>
                      <a:r>
                        <a:rPr b="0" lang="sr-Latn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</a:t>
                      </a: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ћелијског тип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на индукција апоптоз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ноклонска антитела у онкологиј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2287440"/>
          <a:ext cx="8229600" cy="43275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ноклонско антите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обрене индикације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F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зам деј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туксимаб (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tuxan®,  Mabthera®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ерично хумано/муринско антите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чење неХочкиновог лимфома са ЦД20 позитивним Б лимфоцитима, ХЛЛ-а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на индукција апоптозе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атумумаб (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zerra®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манизовани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чење ХЛЛ-а која је рефракторна напредходну примену флударабина и алемтузума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дц ЗНАЦЕН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мтузумаб озогамицин (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lotarg® 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хуманизовани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G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цијенти са АМЛ која је ЦД33 позитивна, старији од 60 година који нису кандидати за другу хемотерапиј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ручивање токсина калихемицина малигним ћелија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ноклонска антитела у онкологиј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2287440"/>
          <a:ext cx="8229600" cy="4486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ноклонско антите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обрене индикације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F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зам деј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Ibritumomab tiuksetan (Zevalin®)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ринско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G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Хочкинов лимфом, релапсна или рефракторна форма  болест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ручивање радио изотопа итријума малигним ћелиј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31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Tositumomab (Bexxar®)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уринско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G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Хочкинов лимфом са ЦД20 рецепторима, релапсна или рефракторна форма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ручивање радио изотопа јода малигним ћелијама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жељена дејства цитостатск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астроинтестинална токсичност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учнина и повраћа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ука и повраћање могу има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кутан то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24 часа од почетка примене л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дложен то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након 24 часа од почетка терап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тиципарни каракте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данима или сатима пред почетак терапиј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исок еметогени потенцијал показују ив примењени лекови као што су: цисплатина, циклофосфамид, дакарбазин, МТХ, доксорубицин и митоксантрон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апија повраћања изазваног цитостатиц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003640" y="2060640"/>
          <a:ext cx="3600720" cy="426384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</a:tblGrid>
              <a:tr h="23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ови високог еметогеног потенција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окатори 5 ХТ3 рецептора (</a:t>
                      </a: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андсетрон, гранисетрон,н доласетрон, палоносетрон 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окатори неурокинин 1 рецептора (</a:t>
                      </a: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питант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ови ниског еметогеног потенција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перидон, фенотиази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ципарно повраћ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разеп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ложено повраћањ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перидон и дексаметазо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жељена дејства цитостатск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атолошка нежељена дејства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пресија костне ср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и цитостатици сем винкристина, блеомицина и аспарагин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укопенија (7-10 дана од примене ле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емија (након 120 да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омбоцитопен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че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колико је број неутрофила нижи од 1х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колико је повишена темп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тибиотици широког спект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ципрофлоксацин, амоксиклав пер ос или цефалоспорини треће и четврте генерације парентерал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грамостим, филграст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жељена дејства цитостатск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ВС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рдиотоксичн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ксорубицин, даунорубиц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кутна кардиотоксичн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суправентрикуларне тахикардија, коморске 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Хронична кардиотоксичн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кардиомиопатије са 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реверзибилна оштећења, због оштећења митохондрија срчаних 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венција: Припрема липозомалних препарата или истовремена примена дексразоксана у односу 10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ућа – фиброза: блеомиц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Јетра –  оштећење хепатоцита, портна хипертенз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меркаптопурин, циклофосфамид, аспарагиназа, пликамицин, МТХ, деривати нитрозоуреје, хидроксиуреја, бусулф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ратогени потенција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жељена дејства цитостатск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штећење коже и њених андекса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индром шака стопа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флуороурацил, доксорубицин, сунитиниб, метотрекс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перпигмент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– бусулфан, блеомицин, МТХ, тиотепа, флуороурац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падање ноктиј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таксани и блеомиц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лопеција:  реверзиби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пала слузокоже усне дупње са улцерацијама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ТХ, флуороурацил, антрациклински дерив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Профилакса оралног мукозитис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азична орална хигијена и не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мена бензадамина (Tantum verde®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рално 30 минута криотерапије – коцкице леда или фолија са ледом за превнцију мукозити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жељена дејства цитостатске терапиј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0000"/>
                </a:solidFill>
                <a:uFillTx/>
                <a:latin typeface="Arial"/>
              </a:rPr>
              <a:t>Мукозитис горњег сегмента дигестивног 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Терапија: - ранитидин 300 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 или омепразол 20 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 u="sng">
                <a:solidFill>
                  <a:srgbClr val="ff0000"/>
                </a:solidFill>
                <a:uFillTx/>
                <a:latin typeface="Arial"/>
              </a:rPr>
              <a:t>Мукозитис доњег сегмента дигестивног тракта, са постојањем дијаре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 u="sng">
                <a:solidFill>
                  <a:srgbClr val="ff0000"/>
                </a:solidFill>
                <a:uFillTx/>
                <a:latin typeface="Arial"/>
              </a:rPr>
              <a:t>Терапиј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Хигијенско-дијететски режим, пер ос или ив инфузија раствора за рехидрат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Лоперамид/ стрептомицин сулфат/метронидаз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Октреоид – уколико предходна терапија не доведе до прекида дијаре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улфасалазин – код  пацијената који су зрачени у пределу карл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жељена дејства цитостатск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чење бола код пацијената на хемиотерап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ЛЕЧЕЊЕ УМЕРЕНОГ БО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еба применити комбинацију парацетамола и других НСАИЛ-а, уз примену опиоида (Трамадол - Trodon®) или применити јак опиоид у малим дозама –морфин или оксикод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чење јаког и врло јако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а – морфин, орално и парентерално, и деривати опио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чење “пробијајућег“ бо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спороослобађајуће форме аналге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чење предозирања опиоидних аналгет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налоксон и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чење неуропатског бо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антиепилептици, антипсихотици, антидепреси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жељена дејства цитостатск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штећење уринарног тракта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сплатин, циклофосфамид, ифосфами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сплатин – тубули бубрега (превенција: 2,5 l 0,9% NaCl/24h уз  примену тиолног естра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ифост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клофосфамид ,ифосфамид :  хеморагични циститис и хипонатриемија (превенција: приме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еханизам дејства цитотоксичн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Сузбијају пролиферацију у највећој мер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Спречавање или ометање појединих фаза или елемената битних за деобу ћелија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RS" sz="2700" spc="-1" strike="noStrike">
                <a:solidFill>
                  <a:srgbClr val="ff0000"/>
                </a:solidFill>
                <a:latin typeface="Arial"/>
              </a:rPr>
              <a:t>Модификација синтезе нуклеинских киселина 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RS" sz="2700" spc="-1" strike="noStrike" u="sng">
                <a:solidFill>
                  <a:srgbClr val="000000"/>
                </a:solidFill>
                <a:uFillTx/>
                <a:latin typeface="Arial"/>
              </a:rPr>
              <a:t>антиметаболи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sr-RS" sz="2700" spc="-1" strike="noStrike">
                <a:solidFill>
                  <a:srgbClr val="ff0000"/>
                </a:solidFill>
                <a:latin typeface="Arial"/>
              </a:rPr>
              <a:t>Модификација структуре и функције ДНК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RS" sz="2700" spc="-1" strike="noStrike" u="sng">
                <a:solidFill>
                  <a:srgbClr val="000000"/>
                </a:solidFill>
                <a:uFillTx/>
                <a:latin typeface="Arial"/>
              </a:rPr>
              <a:t>алкилирајући агенс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sr-RS" sz="2700" spc="-1" strike="noStrike">
                <a:solidFill>
                  <a:srgbClr val="c00000"/>
                </a:solidFill>
                <a:latin typeface="Arial"/>
              </a:rPr>
              <a:t>Инхибиција синтезе протеина и митотског вретена 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RS" sz="2700" spc="-1" strike="noStrike" u="sng">
                <a:solidFill>
                  <a:srgbClr val="000000"/>
                </a:solidFill>
                <a:uFillTx/>
                <a:latin typeface="Arial"/>
              </a:rPr>
              <a:t>винка алкалоид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r-RS" sz="2700" spc="-1" strike="noStrike">
                <a:solidFill>
                  <a:srgbClr val="ff0000"/>
                </a:solidFill>
                <a:latin typeface="Arial"/>
              </a:rPr>
              <a:t>Хормонски и антихормонски препарати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 ..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дела цитотоксичних лекова према фази ћелијског цикл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000000"/>
                </a:solidFill>
                <a:uFillTx/>
                <a:latin typeface="Arial"/>
              </a:rPr>
              <a:t>Циклус-неспецифични лекови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– алкилирајући агенси, деривати платине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0000"/>
                </a:solidFill>
                <a:uFillTx/>
                <a:latin typeface="Arial"/>
              </a:rPr>
              <a:t>Линеарни доза – одгово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:  ефекти ове врсте цитостатика је једнак како на нормалне тако и туморске ћелије у обе фа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Што је већа доза, већи је и ефекат ове групе цитостат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иклус специфичн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тостатици који делују само у једној фази ћелијског циклуса: само у митози: винка алкалоиди, метотрексат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стојање плато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стални пораст дозе неће бити праћен порастом ефекта ових ле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вођење хемо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Arial"/>
              </a:rPr>
              <a:t>Континуирана примена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– хормони и хормонски антагони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 u="sng">
                <a:solidFill>
                  <a:srgbClr val="000000"/>
                </a:solidFill>
                <a:uFillTx/>
                <a:latin typeface="Arial"/>
              </a:rPr>
              <a:t>Пулсна терапија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– у краћим временским размацима, високе дозе лекова, са паузама од 3-4 недеље између циклус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000" spc="-1" strike="noStrike">
                <a:solidFill>
                  <a:srgbClr val="000000"/>
                </a:solidFill>
                <a:latin typeface="Arial"/>
              </a:rPr>
              <a:t>Комбинована терапија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– увек различити механизми деловања и увек различити тип нежељених дејстава!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Одговарајућа доза - оптимални ефекат;  субдозираност – неадекватан ефекат, предозираност – токсичност!!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фикасност хемо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Ефикасност примењених цитостатика зависи и од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сетљивости ткива на дејство лекова 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могућеног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иступа ћелијама измењеног 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Комплетна ремисиј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нестанак свих знакова и симптома бол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Парцијална ремисиј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смањење свих мерљивих лезија за више од 50%, без стварања нових лез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абилна болес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без значајних промена величине тумора, знакова или симптома бол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огресија боле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Повећање величине тумора за више од 25% или појава нових лезиј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7-09-14T21:59:04Z</dcterms:modified>
  <cp:revision>8</cp:revision>
  <dc:subject/>
  <dc:title>Slide 1</dc:title>
</cp:coreProperties>
</file>